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44C-81DF-487D-A3C0-32C4DACA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A2FB-A01E-42CB-B09F-B5B55755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947-10BB-445B-9B0F-F313B3D3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B53-CCA2-438B-8E2E-CDF262A9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6B71-2725-43CB-829D-D7CC465C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F224-0A71-4166-8BF7-AF9457AC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1881-644C-4567-A717-E7502195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5449-3FA7-4C6B-96BB-2C4B1737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6ACD-9049-452F-B341-803C3104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3D5C-63D2-40C8-B388-87D1B9EA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CE81-7F6F-4E17-8D28-A4BE00C6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6BD-A165-4F63-8486-C83B560D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B96A-872F-4C84-B13B-4F3D1132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D8EB-6F7D-4FF0-AFDF-0E672FD9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A12A-D283-43DA-985B-EE67970A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2B04-A93E-4B19-B96C-72F287D6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6FF1-3ECA-44FC-A31F-517B15D7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5CA-24C4-4F39-845A-F72722C9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9A1-8CEE-4C97-ACE8-2C6FD06C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8E5-7F6B-49CB-BEB2-A743707A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7B8-90EA-4556-AC42-F77A6823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692-E88E-4419-A025-A8B8181A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36D-FB5B-4EE8-B2B1-FC4863FB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BCC1-C3BD-4DFA-B835-8CF6185D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Group 3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. 12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alidades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688320" y="3124080"/>
            <a:ext cx="258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LEG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15840" y="41911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le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963960" y="41911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leg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5791320" y="4495680"/>
            <a:ext cx="380880" cy="381240"/>
          </a:xfrm>
          <a:custGeom>
            <a:avLst/>
            <a:gdLst>
              <a:gd name="textAreaLeft" fmla="*/ 37800 w 380880"/>
              <a:gd name="textAreaRight" fmla="*/ 343080 w 380880"/>
              <a:gd name="textAreaTop" fmla="*/ 152640 h 381240"/>
              <a:gd name="textAreaBottom" fmla="*/ 228960 h 381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629760" y="4191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43320" y="5410080"/>
            <a:ext cx="763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llegu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arde para la fies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383040" y="2209680"/>
            <a:ext cx="324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gar (g…gu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86520" y="3124080"/>
            <a:ext cx="265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Z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15120" y="419112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962880" y="419112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5791320" y="4495680"/>
            <a:ext cx="380880" cy="381240"/>
          </a:xfrm>
          <a:custGeom>
            <a:avLst/>
            <a:gdLst>
              <a:gd name="textAreaLeft" fmla="*/ 37800 w 380880"/>
              <a:gd name="textAreaRight" fmla="*/ 343080 w 380880"/>
              <a:gd name="textAreaTop" fmla="*/ 152640 h 381240"/>
              <a:gd name="textAreaBottom" fmla="*/ 228960 h 381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629760" y="4191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34680" y="5410080"/>
            <a:ext cx="599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cruc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la calle aqu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380880" y="2209680"/>
            <a:ext cx="283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zar (z…c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 verbs, such as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e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st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ave irregular negative tú command for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39084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t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191120" y="2438280"/>
            <a:ext cx="339084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d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esté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vay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se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member that pronouns are attached to 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affirmative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a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the pronoun is added to a command form that has two or more syllables, write an accent mark on the syllable stressed in the present ten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4114800" y="624852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ffirmative Tú Commands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ttac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the prono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Como la fru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í, cóme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l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negative commands, pronouns always go right 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befo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verb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Como los dulces tambié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, no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lo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form negati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ú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mmands with regular verbs, we drop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present-ten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orm and add the following ending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5943600" y="5867280"/>
            <a:ext cx="2209680" cy="0"/>
          </a:xfrm>
          <a:prstGeom prst="line">
            <a:avLst/>
          </a:prstGeom>
          <a:ln cap="sq"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ice that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ar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verbs take the ending -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at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er/ir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verbs take the ending -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tem-changing verbs the stem change rema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6400800" y="5867280"/>
            <a:ext cx="1828800" cy="0"/>
          </a:xfrm>
          <a:prstGeom prst="line">
            <a:avLst/>
          </a:prstGeom>
          <a:ln cap="sq"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594360" y="2376360"/>
            <a:ext cx="268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53920" y="320040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3657600" y="3581280"/>
            <a:ext cx="99072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030280" y="312408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b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6781680" y="3352680"/>
            <a:ext cx="381240" cy="381240"/>
          </a:xfrm>
          <a:custGeom>
            <a:avLst/>
            <a:gdLst>
              <a:gd name="textAreaLeft" fmla="*/ 38160 w 381240"/>
              <a:gd name="textAreaRight" fmla="*/ 343440 w 381240"/>
              <a:gd name="textAreaTop" fmla="*/ 152640 h 381240"/>
              <a:gd name="textAreaBottom" fmla="*/ 228960 h 381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7467840" y="3048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594000" y="4433760"/>
            <a:ext cx="424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habl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ho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94360" y="2376360"/>
            <a:ext cx="23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753920" y="320040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3657600" y="3581280"/>
            <a:ext cx="99072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030280" y="312408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6781680" y="3352680"/>
            <a:ext cx="381240" cy="381240"/>
          </a:xfrm>
          <a:custGeom>
            <a:avLst/>
            <a:gdLst>
              <a:gd name="textAreaLeft" fmla="*/ 38160 w 381240"/>
              <a:gd name="textAreaRight" fmla="*/ 343440 w 381240"/>
              <a:gd name="textAreaTop" fmla="*/ 152640 h 381240"/>
              <a:gd name="textAreaBottom" fmla="*/ 228960 h 381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7468560" y="3048120"/>
            <a:ext cx="72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592560" y="4433760"/>
            <a:ext cx="382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coma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09480" y="2376360"/>
            <a:ext cx="292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CRIB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61480" y="3200400"/>
            <a:ext cx="194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crib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3657600" y="3581280"/>
            <a:ext cx="99072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800600" y="3124080"/>
            <a:ext cx="188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cri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6858000" y="3429000"/>
            <a:ext cx="380880" cy="380880"/>
          </a:xfrm>
          <a:custGeom>
            <a:avLst/>
            <a:gdLst>
              <a:gd name="textAreaLeft" fmla="*/ 37800 w 380880"/>
              <a:gd name="textAreaRight" fmla="*/ 343080 w 380880"/>
              <a:gd name="textAreaTop" fmla="*/ 152280 h 380880"/>
              <a:gd name="textAreaBottom" fmla="*/ 228600 h 380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7468560" y="3048120"/>
            <a:ext cx="72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616680" y="4433760"/>
            <a:ext cx="500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escribas ahor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use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teléfono en la clas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salt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l desayun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ponga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cha sal en la com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bs ending in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-car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, -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gar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zar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the following spelling changes in negati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ú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mmands in order to maintain the original s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5334120" y="6095880"/>
            <a:ext cx="251460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6880" y="3124080"/>
            <a:ext cx="224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C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915480" y="419112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964320" y="419112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q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5791320" y="4495680"/>
            <a:ext cx="380880" cy="381240"/>
          </a:xfrm>
          <a:custGeom>
            <a:avLst/>
            <a:gdLst>
              <a:gd name="textAreaLeft" fmla="*/ 37800 w 380880"/>
              <a:gd name="textAreaRight" fmla="*/ 343080 w 380880"/>
              <a:gd name="textAreaTop" fmla="*/ 152640 h 381240"/>
              <a:gd name="textAreaBottom" fmla="*/ 228960 h 381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629760" y="4191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40080" y="5410080"/>
            <a:ext cx="653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toqu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el piano aho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81600" y="2209680"/>
            <a:ext cx="317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car (c…qu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03:03:31Z</dcterms:created>
  <dc:creator>NIHS</dc:creator>
  <dc:description/>
  <dc:language>en-US</dc:language>
  <cp:lastModifiedBy>Windows User</cp:lastModifiedBy>
  <dcterms:modified xsi:type="dcterms:W3CDTF">2014-02-18T21:14:31Z</dcterms:modified>
  <cp:revision>9</cp:revision>
  <dc:subject/>
  <dc:title>No Slide Title</dc:title>
</cp:coreProperties>
</file>